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33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12.png" ContentType="image/png"/>
  <Override PartName="/ppt/media/image26.png" ContentType="image/png"/>
  <Override PartName="/ppt/media/image63.png" ContentType="image/png"/>
  <Override PartName="/ppt/media/image31.png" ContentType="image/png"/>
  <Override PartName="/ppt/media/image49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62.png" ContentType="image/png"/>
  <Override PartName="/ppt/media/image28.jpeg" ContentType="image/jpeg"/>
  <Override PartName="/ppt/media/image27.png" ContentType="image/png"/>
  <Override PartName="/ppt/media/image16.jpeg" ContentType="image/jpeg"/>
  <Override PartName="/ppt/media/image64.png" ContentType="image/png"/>
  <Override PartName="/ppt/media/image60.jpeg" ContentType="image/jpeg"/>
  <Override PartName="/ppt/media/image30.png" ContentType="image/png"/>
  <Override PartName="/ppt/media/image29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21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7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0.png" ContentType="image/png"/>
  <Override PartName="/ppt/media/image66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DFDD-7364-471B-B723-B453118D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04C-6915-41CF-87FB-F785B529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4F2-867C-4E13-9CDC-1EF0C12B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10E-D578-41FB-8C38-DDDDEEE4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ABD-16B2-4BAC-A8EC-376CA121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E59-1EAA-4EA7-BB92-526F7922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58E3-1F16-46E9-A7E8-DD6438E4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A8E4-2198-4142-AE1A-DD83CDE7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5B20-664F-44E5-9C60-5238639C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591E-B169-4A8B-A15A-8A0E9BF5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2F76-48E0-44DD-B15E-26E86B96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C6A-97E5-406D-B9A7-3E4C793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F0D-11E8-4655-AC4C-2BC63F4E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F31-309E-4957-8521-592E12C0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041-AF74-4C36-9E4E-853C1CA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29BA-E9DA-4768-B57F-F160416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60FA-DC4D-43D3-9E28-176D328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6F70-E255-419F-84F6-60E1F75B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5A4-06F4-4174-B88D-FF63FD50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5F80-C657-451C-A100-6E568167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3354-BEF5-4E43-BAB1-13F8AFB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76BE-1ABB-4315-834B-7F64DE27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343B-200A-42A7-9414-95AC78B7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ACD1-3F79-41B3-AECE-E2CEE16F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89F-7D3C-4FA2-AADA-D144821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BE8C-BDB9-4428-9DD2-F14361E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E65E-42F0-478F-A45E-ECD16DB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B0EF-209E-429C-96AF-7FC5790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8531-5F69-49AD-9905-91D6C0F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1BC4-53F5-48AB-81C5-51D09B9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14D0-40C4-43E0-B8F9-8D88E453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996C-7448-41BA-BA05-FFDB6464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30C5-30EC-4D35-943F-1E95CEFE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C282F-B924-4F23-AD85-575560BD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9F26-B31D-4517-A9A5-C7E76801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B37-943E-48B3-96F4-D09DF0B6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84FB-616D-4CA5-96DF-6F5BBDC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DA2B-F609-438F-83CB-BEE9246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954C-402A-40F0-B115-1396188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0567-0294-4C03-9E30-82F4429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FB15-EBE1-4CEA-88C0-E0EBCC0D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7F26-20AE-4F75-8618-721418E8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7519-109A-44F0-BD34-7BC14014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FB84-2DDF-4628-BD4C-6FC64463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EF18-F387-43E3-A856-97D5F170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B905D-9CB0-4953-8D67-922CBD37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D94-858A-4412-9808-4F1D9DFD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783D-13EE-4C84-8630-1239F2CD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ACC5-186C-4EA6-AE2F-C17FBDC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CFFF9-B70E-49FD-A647-A8B9899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0F4F-5AED-4CED-8F42-C43142A6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1D2C-4670-491A-9944-2DD1C31D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27FE-44B1-4793-939F-3BBE166A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A2C0-5039-400E-94FD-AB501278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27AB-1CE0-42B7-BD40-797B22D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7D71-C953-4E50-900A-4615AA22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B6A49-6721-4CD7-80AD-817E2E90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5C0-EB04-4E46-A303-F2550241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99D4-BE4E-40EB-AD88-FF42C616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3360-1BA0-41F4-9248-14F912D2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6A767-9218-41AC-B484-CC601A04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43AAC-1554-4E97-A20D-D827A19B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8FE9-B6F5-4242-9955-28C42AA3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EE2D-509A-45B9-B59C-592CB6A3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4C8D-06B1-4B4D-8F3A-13CD078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A90FB-C34A-4F0C-8762-CB126C4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979E-D664-4CD0-AF8D-BA8F495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E5F5C-83ED-45BF-809A-CE0E9819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EF2-51DA-45CB-83DB-64CACE7B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A3B4E-2081-4368-AACB-17B7C41C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7A34-3768-4E4F-B093-83A1368C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D3F7D-B7E3-42C4-B8E0-545C32C5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E66D6-8269-4351-975E-D395B0EA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95EA-F438-46E6-874E-0E66DFC6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7573C-3A97-48F7-82DD-B86723D0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6C77F-79DB-458D-A0BD-D0E13640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BBA1-09DF-476E-858C-A30DADB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28A93-D1B7-4CAC-B10C-54E63B30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EF36E-6E24-44B6-98B1-78A2E6E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FEB-1CC1-4177-92C0-E4943C9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3BB4-631B-4F83-8F5D-6A3D2F80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64C6-85CD-486E-8232-0C35412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E104-12C0-474E-B101-716F86A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626F7-02DF-4AD8-9C19-B62F4277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C6A9D-7D51-4F69-B3C5-CFA8F410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D3C2E-0531-429A-8486-1A0DDB59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DBDD-A602-49DE-ADA9-D3581D5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D7ADC-7720-4742-8CCC-3E701877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28A3C-D6D9-488D-B4E2-D6257D01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FF77-88FF-4ACB-A735-151972BA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548-B4A9-4BF2-86C5-F98027C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04C9-DF3A-48AD-A322-681EC85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48C77-4F33-495C-B121-E7F27CF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10EF-4171-41AC-A812-FDFB636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0E0E-922F-4EB9-82B6-3A382FD7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58D6-D413-4E39-A36E-1ABB101F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C0BC-623C-4B6E-BBA4-947618FD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3EF8E-01D5-4EBB-8E7F-1792314B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B90E-6D0D-47FF-861C-7FCD36D9B3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88760" y="4952880"/>
              <a:ext cx="7449480" cy="48600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39240" y="5236200"/>
              <a:ext cx="9098640" cy="78660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8240"/>
              <a:ext cx="9135360" cy="1866240"/>
              <a:chOff x="2520" y="4998240"/>
              <a:chExt cx="9135360" cy="186624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8240"/>
                <a:ext cx="913536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8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92F6-B42B-4D88-9490-5D2ECFA24F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C1E-6C98-409C-858A-3E29DAFBA6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7E45-453D-4BC7-996D-5477E6BC81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6DD-EEAE-4A5D-9C85-751DB733C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8688-B439-4902-B3C5-3077EB5FB6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804B-177D-4B9F-9946-001C7A87B8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2600" y="5778360"/>
            <a:ext cx="3414600" cy="110340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568-FE42-467C-8A0B-7D47B087FE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648320" y="3352320"/>
            <a:ext cx="39621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Picture"/>
          <p:cNvPicPr/>
          <p:nvPr/>
        </p:nvPicPr>
        <p:blipFill>
          <a:blip r:embed="rId1"/>
          <a:stretch/>
        </p:blipFill>
        <p:spPr>
          <a:xfrm>
            <a:off x="304920" y="0"/>
            <a:ext cx="4573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micro.magnet.fsu.edu/cells/nucleus/images/chromatinstructurefigure1.jpg"/>
          <p:cNvPicPr/>
          <p:nvPr/>
        </p:nvPicPr>
        <p:blipFill>
          <a:blip r:embed="rId2"/>
          <a:stretch/>
        </p:blipFill>
        <p:spPr>
          <a:xfrm>
            <a:off x="0" y="1905120"/>
            <a:ext cx="894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Picture 4" descr="http://www.fxtas.org/images/chromosomes_and_the_cell.jpg"/>
          <p:cNvPicPr/>
          <p:nvPr/>
        </p:nvPicPr>
        <p:blipFill>
          <a:blip r:embed="rId1"/>
          <a:stretch/>
        </p:blipFill>
        <p:spPr>
          <a:xfrm>
            <a:off x="0" y="0"/>
            <a:ext cx="9296280" cy="5715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426708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6400800" y="4114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9"/>
          <p:cNvCxnSpPr/>
          <p:nvPr/>
        </p:nvCxnSpPr>
        <p:spPr>
          <a:xfrm flipV="1">
            <a:off x="4876920" y="2590200"/>
            <a:ext cx="76248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Straight Arrow Connector 10"/>
          <p:cNvCxnSpPr/>
          <p:nvPr/>
        </p:nvCxnSpPr>
        <p:spPr>
          <a:xfrm flipV="1">
            <a:off x="7162920" y="2895120"/>
            <a:ext cx="121968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8" name="Picture 2" descr="http://dj003.k12.sd.us/images/genes.gif"/>
          <p:cNvPicPr/>
          <p:nvPr/>
        </p:nvPicPr>
        <p:blipFill>
          <a:blip r:embed="rId1"/>
          <a:stretch/>
        </p:blipFill>
        <p:spPr>
          <a:xfrm>
            <a:off x="380880" y="609480"/>
            <a:ext cx="4286520" cy="3953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ap-bio-patrick-steed.wikispaces.com/file/view/Alleles.gif/85211841/Alleles.gif"/>
          <p:cNvPicPr/>
          <p:nvPr/>
        </p:nvPicPr>
        <p:blipFill>
          <a:blip r:embed="rId2"/>
          <a:stretch/>
        </p:blipFill>
        <p:spPr>
          <a:xfrm>
            <a:off x="5334120" y="2590920"/>
            <a:ext cx="32860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2" name="Picture 2" descr="http://cdn.innovateus.net/preset_4/image_homozygous_heterozygous.gif"/>
          <p:cNvPicPr/>
          <p:nvPr/>
        </p:nvPicPr>
        <p:blipFill>
          <a:blip r:embed="rId1"/>
          <a:stretch/>
        </p:blipFill>
        <p:spPr>
          <a:xfrm>
            <a:off x="228600" y="609480"/>
            <a:ext cx="4238640" cy="2713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http://t1.gstatic.com/images?q=tbn:ANd9GcSbIAKUFYeOiZD-68CNHqpiasBp820D7eqNd71RXKvMmw_4OYkThg"/>
          <p:cNvPicPr/>
          <p:nvPr/>
        </p:nvPicPr>
        <p:blipFill>
          <a:blip r:embed="rId2"/>
          <a:stretch/>
        </p:blipFill>
        <p:spPr>
          <a:xfrm>
            <a:off x="3962520" y="2743200"/>
            <a:ext cx="49528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6" descr="http://www.sciencebuddies.org/science-fair-projects/project_ideas/Genom_img043.jpg"/>
          <p:cNvPicPr/>
          <p:nvPr/>
        </p:nvPicPr>
        <p:blipFill>
          <a:blip r:embed="rId1"/>
          <a:stretch/>
        </p:blipFill>
        <p:spPr>
          <a:xfrm>
            <a:off x="1295280" y="2971800"/>
            <a:ext cx="7348680" cy="4114800"/>
          </a:xfrm>
          <a:prstGeom prst="rect">
            <a:avLst/>
          </a:prstGeom>
          <a:ln w="0">
            <a:noFill/>
          </a:ln>
        </p:spPr>
      </p:pic>
      <p:pic>
        <p:nvPicPr>
          <p:cNvPr id="425" name="Title 1" descr=""/>
          <p:cNvPicPr/>
          <p:nvPr/>
        </p:nvPicPr>
        <p:blipFill>
          <a:blip r:embed="rId2"/>
          <a:stretch/>
        </p:blipFill>
        <p:spPr>
          <a:xfrm>
            <a:off x="914400" y="219240"/>
            <a:ext cx="7162920" cy="140796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2"/>
          <p:cNvSpPr/>
          <p:nvPr/>
        </p:nvSpPr>
        <p:spPr>
          <a:xfrm>
            <a:off x="0" y="-601560"/>
            <a:ext cx="1409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www.muskingum.edu/~psych/psycweb/history/mendelchart.gif"/>
          <p:cNvPicPr/>
          <p:nvPr/>
        </p:nvPicPr>
        <p:blipFill>
          <a:blip r:embed="rId3"/>
          <a:stretch/>
        </p:blipFill>
        <p:spPr>
          <a:xfrm>
            <a:off x="0" y="762120"/>
            <a:ext cx="2546280" cy="228600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"/>
          <p:cNvSpPr/>
          <p:nvPr/>
        </p:nvSpPr>
        <p:spPr>
          <a:xfrm>
            <a:off x="3124080" y="16002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rait completely masks/dominants the other trait when it is expressed.   Can be homozygous or heterozygous 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444680" y="139680"/>
            <a:ext cx="6937200" cy="14144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http://www.jackrussell.ch/images2/01img/FarbEngl01.jpg"/>
          <p:cNvPicPr/>
          <p:nvPr/>
        </p:nvPicPr>
        <p:blipFill>
          <a:blip r:embed="rId2"/>
          <a:stretch/>
        </p:blipFill>
        <p:spPr>
          <a:xfrm>
            <a:off x="380880" y="83808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http://blog.lib.umn.edu/stoe0062/fall_2011%20psy%201001%20sec%2021/recessive%20gene.jpg"/>
          <p:cNvPicPr/>
          <p:nvPr/>
        </p:nvPicPr>
        <p:blipFill>
          <a:blip r:embed="rId3"/>
          <a:stretch/>
        </p:blipFill>
        <p:spPr>
          <a:xfrm>
            <a:off x="4876920" y="3257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8"/>
          <p:cNvSpPr/>
          <p:nvPr/>
        </p:nvSpPr>
        <p:spPr>
          <a:xfrm>
            <a:off x="3809880" y="15238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essive trait is seen when there are 2 copies present (homozygous recess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4382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6" name="Picture 2" descr="http://www.raisingdeafkids.org/graphics/art/auto_dominant.gif"/>
          <p:cNvPicPr/>
          <p:nvPr/>
        </p:nvPicPr>
        <p:blipFill>
          <a:blip r:embed="rId1"/>
          <a:stretch/>
        </p:blipFill>
        <p:spPr>
          <a:xfrm>
            <a:off x="1981080" y="533520"/>
            <a:ext cx="609624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th traits are equally dominant and neither will give in so both traits are show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http://creationwiki.org/pool/images/thumb/c/c6/Codominant.jpg/200px-Codominant.jpg"/>
          <p:cNvPicPr/>
          <p:nvPr/>
        </p:nvPicPr>
        <p:blipFill>
          <a:blip r:embed="rId2"/>
          <a:stretch/>
        </p:blipFill>
        <p:spPr>
          <a:xfrm>
            <a:off x="2362320" y="2895480"/>
            <a:ext cx="37335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4148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http://html.slidesharecdn.com/incompletecodominancemultiplealleles-120302115412-phpapp01/output003.png?1330711147"/>
          <p:cNvPicPr/>
          <p:nvPr/>
        </p:nvPicPr>
        <p:blipFill>
          <a:blip r:embed="rId2"/>
          <a:stretch/>
        </p:blipFill>
        <p:spPr>
          <a:xfrm>
            <a:off x="380880" y="-609480"/>
            <a:ext cx="8110800" cy="56386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457200" y="1219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ack Feathered Chic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429000" y="19051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te feathered chic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5943600" y="5029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ckered feather 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us 8"/>
          <p:cNvSpPr/>
          <p:nvPr/>
        </p:nvSpPr>
        <p:spPr>
          <a:xfrm>
            <a:off x="2590920" y="1676520"/>
            <a:ext cx="838080" cy="83808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111103" y="320528"/>
                </a:moveTo>
                <a:lnTo>
                  <a:pt x="320528" y="320528"/>
                </a:lnTo>
                <a:lnTo>
                  <a:pt x="320528" y="111103"/>
                </a:lnTo>
                <a:lnTo>
                  <a:pt x="517672" y="111103"/>
                </a:lnTo>
                <a:lnTo>
                  <a:pt x="517672" y="320528"/>
                </a:lnTo>
                <a:lnTo>
                  <a:pt x="727097" y="320528"/>
                </a:lnTo>
                <a:lnTo>
                  <a:pt x="727097" y="517672"/>
                </a:lnTo>
                <a:lnTo>
                  <a:pt x="517672" y="517672"/>
                </a:lnTo>
                <a:lnTo>
                  <a:pt x="517672" y="727097"/>
                </a:lnTo>
                <a:lnTo>
                  <a:pt x="320528" y="727097"/>
                </a:lnTo>
                <a:lnTo>
                  <a:pt x="320528" y="517672"/>
                </a:lnTo>
                <a:lnTo>
                  <a:pt x="111103" y="517672"/>
                </a:lnTo>
                <a:lnTo>
                  <a:pt x="111103" y="32052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qual 9"/>
          <p:cNvSpPr/>
          <p:nvPr/>
        </p:nvSpPr>
        <p:spPr>
          <a:xfrm>
            <a:off x="4572000" y="495288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101003" y="109880"/>
                </a:moveTo>
                <a:lnTo>
                  <a:pt x="660997" y="109880"/>
                </a:lnTo>
                <a:lnTo>
                  <a:pt x="660997" y="235336"/>
                </a:lnTo>
                <a:lnTo>
                  <a:pt x="101003" y="235336"/>
                </a:lnTo>
                <a:lnTo>
                  <a:pt x="101003" y="109880"/>
                </a:lnTo>
                <a:close/>
                <a:moveTo>
                  <a:pt x="101003" y="298064"/>
                </a:moveTo>
                <a:lnTo>
                  <a:pt x="660997" y="298064"/>
                </a:lnTo>
                <a:lnTo>
                  <a:pt x="660997" y="423520"/>
                </a:lnTo>
                <a:lnTo>
                  <a:pt x="101003" y="423520"/>
                </a:lnTo>
                <a:lnTo>
                  <a:pt x="101003" y="298064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219320" y="49320"/>
            <a:ext cx="6632280" cy="14144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www.emc.maricopa.edu/faculty/farabee/biobk/incomdom.gif"/>
          <p:cNvPicPr/>
          <p:nvPr/>
        </p:nvPicPr>
        <p:blipFill>
          <a:blip r:embed="rId2"/>
          <a:stretch/>
        </p:blipFill>
        <p:spPr>
          <a:xfrm>
            <a:off x="3913200" y="1447920"/>
            <a:ext cx="5230800" cy="40384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5"/>
          <p:cNvSpPr/>
          <p:nvPr/>
        </p:nvSpPr>
        <p:spPr>
          <a:xfrm>
            <a:off x="228600" y="14479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ts are not dominant or recessive. The trait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n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gether to make a new color/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http://bioserv.fiu.edu/~walterm/FallSpring/inheritance/Fall031.jpg"/>
          <p:cNvPicPr/>
          <p:nvPr/>
        </p:nvPicPr>
        <p:blipFill>
          <a:blip r:embed="rId3"/>
          <a:stretch/>
        </p:blipFill>
        <p:spPr>
          <a:xfrm>
            <a:off x="380880" y="3962520"/>
            <a:ext cx="320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of DNA being copied before cell division occu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make an exact copy or mutations will occur (which could be harmfu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2 strands of the DNA helix split and each side serves as a template for the other si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cess makes sure that information is not loss during the replication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1749600" y="219240"/>
            <a:ext cx="6022800" cy="1407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http://schoolworkhelper.net/wp-content/uploads/2010/11/x-linked.gif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48769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"/>
          <p:cNvSpPr/>
          <p:nvPr/>
        </p:nvSpPr>
        <p:spPr>
          <a:xfrm>
            <a:off x="5410080" y="205740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it is carried on the sex –chromosome (x-chromosome) so the inheritance is different for males and fe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"/>
          <p:cNvSpPr/>
          <p:nvPr/>
        </p:nvSpPr>
        <p:spPr>
          <a:xfrm>
            <a:off x="5715000" y="41148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 inherit one gene from mother on X chromosome and an unaffected Y from f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s inherit an X from their father and an X from their m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rait controlled by 2 or more genes and produces a range of outcomes (examples: skin color, eye color, hair color, heigh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1371600" y="219240"/>
            <a:ext cx="6248520" cy="1407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http://www.tokresource.org/tok_classes/biobiobio/biomenu/polygenic_inheritence/polygenic_skin.jpg"/>
          <p:cNvPicPr/>
          <p:nvPr/>
        </p:nvPicPr>
        <p:blipFill>
          <a:blip r:embed="rId2"/>
          <a:stretch/>
        </p:blipFill>
        <p:spPr>
          <a:xfrm>
            <a:off x="3809880" y="1676520"/>
            <a:ext cx="47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http://www.columbia.edu/cu/biology/courses/c2005/images/abo_blood.21.gif"/>
          <p:cNvPicPr/>
          <p:nvPr/>
        </p:nvPicPr>
        <p:blipFill>
          <a:blip r:embed="rId1"/>
          <a:stretch/>
        </p:blipFill>
        <p:spPr>
          <a:xfrm>
            <a:off x="380880" y="1676520"/>
            <a:ext cx="5842080" cy="4533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648320" y="2057040"/>
            <a:ext cx="3962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ore than 2 forms of a gene control the trait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2"/>
          <a:stretch/>
        </p:blipFill>
        <p:spPr>
          <a:xfrm>
            <a:off x="1066680" y="219240"/>
            <a:ext cx="6858000" cy="14079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276720" y="3352680"/>
            <a:ext cx="3200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228600" y="1447920"/>
            <a:ext cx="5334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http://rhesusnegativebloodgroup.files.wordpress.com/2011/10/64849-blood-type.gif"/>
          <p:cNvPicPr/>
          <p:nvPr/>
        </p:nvPicPr>
        <p:blipFill>
          <a:blip r:embed="rId3"/>
          <a:stretch/>
        </p:blipFill>
        <p:spPr>
          <a:xfrm>
            <a:off x="5562720" y="3581280"/>
            <a:ext cx="17524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mutations alter th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omposition or number of chromosom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the organism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have severe consequences for the orga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occur during mei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http://drugline.org/img/term/nondisjunction-10487_0.gif"/>
          <p:cNvPicPr/>
          <p:nvPr/>
        </p:nvPicPr>
        <p:blipFill>
          <a:blip r:embed="rId2"/>
          <a:stretch/>
        </p:blipFill>
        <p:spPr>
          <a:xfrm>
            <a:off x="1535040" y="1371600"/>
            <a:ext cx="5832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http://laikaspoetnik.files.wordpress.com/2010/09/20-9-2010-1-21-05-t14-18.png"/>
          <p:cNvPicPr/>
          <p:nvPr/>
        </p:nvPicPr>
        <p:blipFill>
          <a:blip r:embed="rId2"/>
          <a:stretch/>
        </p:blipFill>
        <p:spPr>
          <a:xfrm>
            <a:off x="609480" y="1447920"/>
            <a:ext cx="79250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://www.embryology.ch/images/kimgchromaber/02abweichende/k2g_insertion.gif"/>
          <p:cNvPicPr/>
          <p:nvPr/>
        </p:nvPicPr>
        <p:blipFill>
          <a:blip r:embed="rId2"/>
          <a:stretch/>
        </p:blipFill>
        <p:spPr>
          <a:xfrm>
            <a:off x="2057400" y="1295280"/>
            <a:ext cx="48769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9" name="Picture 2" descr="http://depts.washington.edu/chdd/outlook/images/LgChromosomalChanges.png"/>
          <p:cNvPicPr/>
          <p:nvPr/>
        </p:nvPicPr>
        <p:blipFill>
          <a:blip r:embed="rId1"/>
          <a:stretch/>
        </p:blipFill>
        <p:spPr>
          <a:xfrm>
            <a:off x="533520" y="533520"/>
            <a:ext cx="8151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www.embryology.ch/images/kimgchromaber/02abweichende/k2c_deletion.gif"/>
          <p:cNvPicPr/>
          <p:nvPr/>
        </p:nvPicPr>
        <p:blipFill>
          <a:blip r:embed="rId2"/>
          <a:stretch/>
        </p:blipFill>
        <p:spPr>
          <a:xfrm>
            <a:off x="1828800" y="1371600"/>
            <a:ext cx="53341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57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http://www.embryology.ch/images/kimgchromaber/02abweichende/k2e_duplikation.gif"/>
          <p:cNvPicPr/>
          <p:nvPr/>
        </p:nvPicPr>
        <p:blipFill>
          <a:blip r:embed="rId2"/>
          <a:stretch/>
        </p:blipFill>
        <p:spPr>
          <a:xfrm>
            <a:off x="2057400" y="1074600"/>
            <a:ext cx="44956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2" name="Picture 4" descr="http://www.visionlearning.com/library/modules/mid180/Image/VLObject-4903-100608090630.jpg"/>
          <p:cNvPicPr/>
          <p:nvPr/>
        </p:nvPicPr>
        <p:blipFill>
          <a:blip r:embed="rId1"/>
          <a:stretch/>
        </p:blipFill>
        <p:spPr>
          <a:xfrm>
            <a:off x="304920" y="304920"/>
            <a:ext cx="88074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http://academic.brooklyn.cuny.edu/biology/bio4fv/page/molecular%20biology/mutation-inversion.jpeg"/>
          <p:cNvPicPr/>
          <p:nvPr/>
        </p:nvPicPr>
        <p:blipFill>
          <a:blip r:embed="rId2"/>
          <a:stretch/>
        </p:blipFill>
        <p:spPr>
          <a:xfrm>
            <a:off x="1447920" y="1219320"/>
            <a:ext cx="64767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http://www.ces.ncsu.edu/resources/crops/ag546-1/helixes3.jpg"/>
          <p:cNvPicPr/>
          <p:nvPr/>
        </p:nvPicPr>
        <p:blipFill>
          <a:blip r:embed="rId2"/>
          <a:stretch/>
        </p:blipFill>
        <p:spPr>
          <a:xfrm>
            <a:off x="304920" y="1447920"/>
            <a:ext cx="85820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Title 2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229600" cy="8524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ttp://www.accessexcellence.org/RC/AB/BA/aapost/images/recipe.gif"/>
          <p:cNvPicPr/>
          <p:nvPr/>
        </p:nvPicPr>
        <p:blipFill>
          <a:blip r:embed="rId2"/>
          <a:stretch/>
        </p:blipFill>
        <p:spPr>
          <a:xfrm>
            <a:off x="533520" y="609480"/>
            <a:ext cx="8259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ttp://www.clonesafety.org/images/DollyDiagram.gif"/>
          <p:cNvPicPr/>
          <p:nvPr/>
        </p:nvPicPr>
        <p:blipFill>
          <a:blip r:embed="rId2"/>
          <a:stretch/>
        </p:blipFill>
        <p:spPr>
          <a:xfrm>
            <a:off x="3505320" y="0"/>
            <a:ext cx="467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00" name="Picture 5" descr="http://web.cmta.net/graphics/graphic_genetic_engineering.jpg"/>
          <p:cNvPicPr/>
          <p:nvPr/>
        </p:nvPicPr>
        <p:blipFill>
          <a:blip r:embed="rId1"/>
          <a:stretch/>
        </p:blipFill>
        <p:spPr>
          <a:xfrm>
            <a:off x="380880" y="304920"/>
            <a:ext cx="84661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Title 2" descr=""/>
          <p:cNvPicPr/>
          <p:nvPr/>
        </p:nvPicPr>
        <p:blipFill>
          <a:blip r:embed="rId1"/>
          <a:stretch/>
        </p:blipFill>
        <p:spPr>
          <a:xfrm>
            <a:off x="0" y="274680"/>
            <a:ext cx="2438280" cy="1146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http://www.examiner.com/images/blog/EXID11984/images/DNA_testing_helps_solve_crimes_www_examiner_com_ShowPhoto.jpg"/>
          <p:cNvPicPr/>
          <p:nvPr/>
        </p:nvPicPr>
        <p:blipFill>
          <a:blip r:embed="rId2"/>
          <a:stretch/>
        </p:blipFill>
        <p:spPr>
          <a:xfrm>
            <a:off x="2495520" y="304920"/>
            <a:ext cx="6500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4040280" cy="6397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41720" cy="6397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ation from the DNA (in the nucleus) is copied in the form of messenger RN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pies only the information for the protein that needs to be mad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mRNA then leaves the nucleus and travels to the ribosom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codes the information from the mRN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ccurs in the riboso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s tRNA and mRNA to make the protein correctly according to the directions that were specified in the original D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netic code for each amino acid is the same in ALL organism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Picture 2" descr="http://www.brooklyn.cuny.edu/bc/ahp/BioInfo/graphics/GP.GeneticCode.GIF"/>
          <p:cNvPicPr/>
          <p:nvPr/>
        </p:nvPicPr>
        <p:blipFill>
          <a:blip r:embed="rId1"/>
          <a:stretch/>
        </p:blipFill>
        <p:spPr>
          <a:xfrm>
            <a:off x="83808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mysciencebox.org/files/images/Transcription%20translation.gif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853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pcontent.answcdn.com/wikipedia/commons/thumb/6/69/Point_mutations-en.png/301px-Point_mutations-en.png"/>
          <p:cNvPicPr/>
          <p:nvPr/>
        </p:nvPicPr>
        <p:blipFill>
          <a:blip r:embed="rId2"/>
          <a:stretch/>
        </p:blipFill>
        <p:spPr>
          <a:xfrm>
            <a:off x="228600" y="914400"/>
            <a:ext cx="8788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2"/>
          <p:cNvSpPr/>
          <p:nvPr/>
        </p:nvSpPr>
        <p:spPr>
          <a:xfrm>
            <a:off x="0" y="-738360"/>
            <a:ext cx="1647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0" y="-738360"/>
            <a:ext cx="1647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www.daftblogger.com/wp-content/uploads/2011/08/frameshift-mutation.jpg"/>
          <p:cNvPicPr/>
          <p:nvPr/>
        </p:nvPicPr>
        <p:blipFill>
          <a:blip r:embed="rId2"/>
          <a:stretch/>
        </p:blipFill>
        <p:spPr>
          <a:xfrm>
            <a:off x="1981080" y="1143000"/>
            <a:ext cx="5715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Original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AT ATE THE FAT RA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Silen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A CAT ATE THE FAT RA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Nonsense 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AT ATE TH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Missense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AR ATE THE FAT RA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05766"/>
                </a:solidFill>
                <a:latin typeface="Lucida Sans Unicode"/>
              </a:rPr>
              <a:t>Frameshift M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E CCA TAT ETH EFA TRA 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THC ATA TET HEF ATR A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7:29:46Z</dcterms:created>
  <dc:creator>Administrator</dc:creator>
  <dc:description/>
  <dc:language>en-US</dc:language>
  <cp:lastModifiedBy>Dawn  Marshall</cp:lastModifiedBy>
  <dcterms:modified xsi:type="dcterms:W3CDTF">2013-03-20T15:22:38Z</dcterms:modified>
  <cp:revision>27</cp:revision>
  <dc:subject/>
  <dc:title>Bio Boot Camp</dc:title>
</cp:coreProperties>
</file>